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2585-EBB8-453A-985E-857A3213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6014-9401-43B4-8354-CDD3A2C4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02E-48E5-4A6B-8B51-7D0F8E16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D8B-A2F3-4269-AF47-62C9C024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14C0-A5D7-4D0D-B698-B803E587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3E9-57F2-417C-9D69-2823FF50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7B7C-986A-415E-91BA-B9F992C1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694-6D3A-4E93-98AB-A15209A2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EB5C-36D6-4F60-ACB5-2B9EC406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E9B-C2E9-436D-83C4-52E835E5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8EE2-A728-44E4-9EA8-A1161E1F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742E-26E4-4642-857B-5E0EB1FE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60BB-288E-4B7E-80F8-FC755C119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16088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Projeto de L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MAIO DE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65360" y="0"/>
            <a:ext cx="1663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humberto.junior</cp:lastModifiedBy>
  <dcterms:modified xsi:type="dcterms:W3CDTF">2007-05-11T19:53:31Z</dcterms:modified>
  <cp:revision>19</cp:revision>
  <dc:subject/>
  <dc:title>Slide 1</dc:title>
</cp:coreProperties>
</file>